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1C830-3D47-462B-96B1-CED9817D9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B7D4D-6D0A-4909-B9DD-7366BF63F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ECC80E4-3C8B-49B9-A882-F190CE9940C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BA0752E-2CE9-4CE8-93A3-EF21972B9AA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6BD538E-CA24-4380-AD3E-EED29268AB6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985C5B3-71AF-4311-8973-CD796E8A4C0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07EF7CE-589C-4253-9BFE-3FDC2C3BBC6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CA040B7-D99B-4F59-9B11-F543AA2F078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E00501D-B7F8-4DD0-B31F-E361D09A3B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3063B99-3FF3-461C-9077-656AC5D84E6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DA1D882-FD5E-4747-A4E1-77F7063B34E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8EC023C-DB86-4814-BA55-02C07326BFB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F4AAF-8BA6-4BC7-A35E-D73F00466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92F741C-9C34-4A80-BF22-DF4ED54C97A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3F57239-CB12-4586-B845-BC94F774825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D6F758F-5457-4FFE-AEE3-E1CDB158CF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2E3F103-86B5-4CA7-8F08-7830B7CD4B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17E62AD-6110-4533-9CF9-90A67D4E684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C10C2DF-6285-4842-8D26-D0D8A4B4941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66FBFD2-0A87-4173-BC20-5AFF84D0BB6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5031B21-D9C9-40C8-8F6B-0509E224A0E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C20431B-2A35-489C-9E5B-78EA4B5A7F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B6DAC2F-19D8-480B-9B97-8935FB9B5C7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50E84-E5D9-46D7-96B0-C1AC23B3B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2E56FFD-A245-4E0F-83D8-F610EAD52F0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820B204-8BE8-463E-9C3E-C50E3B3B4F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DF102EC-342A-4CDB-94A8-4475C609DD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87C383F-C792-40B9-A05D-DC01E09D4E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71E033A-8B5C-4904-B353-82E458EF2D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F37C491-AE9C-462A-B4E6-1C809B2CA6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7546CAE-FB38-4457-B5C9-1B78D5DA9A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E78865C-BB1B-47BB-ABC9-F777E3FDEB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356215F-2C6C-4572-9CBD-D4717CD3E6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4559B46-4E27-44BB-8A90-F56AE0B1AC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620C506-FB45-4A54-A6E9-3EE6D57D53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18E0121-1164-4823-B004-1A9E3E5FE5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A8D08B2-1384-4CB3-AF11-AA842A54E9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15149B0-B688-4FFC-BB12-0711DFACF4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0E1D648-83EA-400B-B5DA-C69D611423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A6BE6F9-6E88-4F0A-94E3-2C5562EA81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E494BD2-E998-4F75-97A7-F25C37A942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4D46D1E-F4B5-4D66-A497-09135ACDD0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E1350B3-35F8-4788-9F04-56B18CA398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6024769-8F4B-4CD6-BD8C-18F02C73FC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FB55D5C-EC68-4827-847F-3933977AAC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609AA84-B119-49C2-A214-F891E1551E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A24440A-AD2A-49EB-8ADE-511E1039B5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B65417A-EC44-431F-9B10-180D30297B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10F5699-30D4-4A0F-BF6B-5315601556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39C0435-7303-4353-8542-53D50B398C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D9165A6-AC2C-4CAB-B22D-22C4E30335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0BD8C4A-B6EE-41B3-A5A2-D75169C232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BB2A053-1E6A-48DC-8A4C-D4D8CDE11E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6377DDB-104C-4B61-9D35-5A96DC7F91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17D998A-A404-4D6F-8335-E179217AAC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30B00C0-8C44-43C9-984B-A83D3C227E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1EC5663-43E3-49D6-A3B1-67813E9126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04EDC74-D9DA-4F9E-A14F-6AA6A258CA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D1EEDCA-0BEE-4FCF-8238-DDA82E5FA9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0867E553-7EE2-4DB3-B00B-E9FC6E6D78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5D85C56-123F-407B-842D-422739F068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5D28F32-5CE7-4511-8C3B-2B81F80E905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631B70-221A-40F1-A624-058C35A8E1C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B55DB9-7788-4199-A172-DAA2EB27148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AD5647-1E46-42BA-8347-F68E93DA48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DF0187-EEDB-4A91-B800-D861C996F8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12AAF6-0961-45CF-AB7E-A6402514395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B64825-7F05-4B2D-9A41-DCAE47EEB4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9AF283-CC96-477F-855C-9AA0A7AF8D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74BFB1-8E48-4EA3-83AD-F64B105B72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EC4585-91EF-4BFC-8089-9F1B1C4906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5548430-C9DA-4CBD-8236-225899C15B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CDCD398-8932-4052-9C67-4E57D0EB4C1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9004D1F-B4D6-4281-B8CF-C52BB767A59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4A7919-3B66-475C-AE42-D232948B76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B8209C2-C638-491F-886D-FEB45026E5D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8E4DC3-9419-41F5-B31D-6264113CD5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D92A6E-6BB3-4E78-91CF-FDE2BA9A8F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21A3A4-657B-4869-A583-3EB788D84D8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27F5C1-2C32-4F5E-A120-9F42EBA073A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6E55A9-9A6D-4886-A5F0-E66F579388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BB5940-ADC0-447A-9ABB-DD3DBE466C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F80D9A6-1C57-45A2-A113-B04EB89C4A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4957558-7245-4298-9799-6BECDCE0B07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059B781-CE40-49A3-83C4-B346DD98980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E9E90BE-842F-4D4D-9730-31F3C822A57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970235E-EF3F-4ED1-90BD-6F7E27DFDD8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38D169-CB29-4B72-9D48-99910261464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6821D59-6360-42E8-B3EF-E36C394C4BB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8207842-061D-4600-91A6-45B22A92513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FAE6F6E-221A-4BBD-9054-D04460554C7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942E0B-4571-4B33-9086-A8FF6277C8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93E00-C169-4AB3-8596-298CCCC33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14DC30-51AD-4847-A63B-EE272AA155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169E69-4921-4FDC-936F-C6D656BCDA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18BA338-D481-459E-80D0-39DDF7F32B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4BC6C2A-1AC8-43E9-A54D-75E964990F4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99EE367-78A3-44CF-B4B6-68C47D96B0E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5340304-3053-4EDD-BF22-75C74764440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44C3183-9213-4469-A756-2ABF5BBF8C3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353DB3-FD6F-40DD-8947-CA55543234D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F7B9AD6-DDF8-494B-99EF-59FDB8F9D8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CE8090-036D-4162-B6B7-00EB6A7306E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8C0DD73-043F-4294-B7CB-29D0741C8B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C67544A-80A1-4A35-B0D7-05B71238ED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68F13C-2577-4CC7-938B-400A28D158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983AB4-2999-4397-B581-D4C6BA6361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6D17E7-7CB3-4ABC-8258-0D2530CA481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CBAE819-5D77-4D48-8142-72368C36C74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71EA5F4-31F9-4ACB-93D5-1155D0C3DC2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E0F6519-D76E-4B1F-994A-E5DD9F2C0E9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89B25F3-B75D-48BC-B1F8-9A8CAE1CD94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843BC0A-18F1-4473-89C9-7E729B692F7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B8322D6-82AC-4919-AAED-4365EE1E752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E4BDBF-64EF-43C7-81D1-DD73DA36A8C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15BB1B-C035-417B-8671-2072841321C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0A09161-93A7-4A78-A589-81E2719DF2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9BB4BE-47BD-42FB-9B13-439B5880FEA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84268A-1123-495C-9212-3BED507CF9B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F195AE-E6BC-4268-BBD2-57874A56ABF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DA20DE1-9496-43B3-95B1-F74B820831E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6EB39C2-1FEC-4ED5-A0D6-72E2A8B6640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CB1D637-65B5-42F8-9238-80ADCC610EB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77C4781-A3EC-447D-96C7-C488E1D871D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38306FF-AA17-4E1D-95D5-A8F50068C84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913B9E-925E-426A-A562-D43119238CC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E243D42-9644-4BC7-9D51-267140D4E09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78FEA53-C9C3-4842-82D2-CB4C643EFF1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5B5DBDE-7718-459D-9EA2-3ADE1AAE791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E590D70-3A59-40DA-A277-4845774FE9D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9927FA-279A-43F3-9C89-AACFAF64080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FBA8573-241B-4E04-9ADF-3507E03A87C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7378D66-5059-49D3-A4D4-0657C917FA2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BB02D7D-39E1-4A09-B1EF-D21AFE15C6A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F9D6170-DEEE-4D55-BDA8-8F67604E3FF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4A212D6-3A15-4261-89F3-8D729001970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B7FDF5A-ACB1-4683-A018-061369570F4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073E3B4-39F0-414C-B0A6-58E58599A27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217DA6A-8E48-416D-8AE2-5E4035929AF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D2986E1-DA50-44C2-BDE4-6951328E87E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74DCFFB-F07D-46E4-A46A-E074D795D9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7870382-9896-4B6C-9531-0683DBBB687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44AB69D-CA88-475B-AABA-939ACFDF23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603EEC-76DF-42A9-A494-70F0CF5D8E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74E2F52-6406-4974-9FF3-C130E7714AE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E7270BD-08E4-46E6-8CE0-24063F33570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3CEE533-517D-44FC-9C46-35BFE218DF0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BB41CD-8928-4D56-B41A-41B0A83D1B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50221A-3667-4E21-A7F6-38F934882B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F4388D-ABFA-4877-B89F-56E5AD3EA3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97A9BA-FE4A-4ABC-B516-50FF2F110F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21C7F-53A6-400D-90BB-641D9BA6F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D2FDAC-8BEA-4254-8E3A-496D0FF36C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66DA2D-B07D-4B05-82BB-0563BC97C9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668EF1-6551-4B75-A393-8BD81F06ED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B4F59A-18C9-419A-B881-59F39D3916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B1249C-9DF9-4377-A679-09A40F9738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6328474-FD76-4475-BF18-6730F5E8EC4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97E0BC-AAE2-42BC-8854-505C1608927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7554C66-5762-4462-A8C4-47406354EE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81EB63-5807-42FA-85BF-B69BAD9056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BA47D6-46BA-4140-A1C6-E473ACEA9D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CD99-23FC-4F00-9B47-AC4C36B33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23DF9F-8F2A-44B2-B486-E670EE9107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C5BD73-4A20-48D0-9F99-7ADD49B15D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EDBB7C-EAEC-497C-9F36-803897362E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0B4577-D2E5-4F61-BD28-E6F779AE03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A9668F-2B62-4CCF-ABA1-E29BB07875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F9D582-2CBD-416F-B4B9-E6D37F21DE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E8E66C-C218-4DC6-B992-527797DCC7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3C5E1C4-38C3-43F3-AF0A-F0A55F1FF9A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A663D1F-216E-42AB-B502-D3E004DF71A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561D1-EED4-4E2F-801E-6FDAA21A0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AC4F2-11E5-4D9E-B8DA-9FB678DF6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087A9E0-5841-4A6C-8C8F-79F933E3200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6E93CE6-704D-435D-A65C-04C58E3A8B2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596E05A-786E-4AAB-A971-C8FEA33ECDE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3CDE67D-E0ED-4D24-994F-691835041C4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CA495C4-D777-49AD-8289-4B37F334B81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26EAB8F-1BFF-426E-BE74-52846636DD4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70D0A1C-B3B3-4944-B69C-FE58A32702C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64C1A5-DA21-48A4-9EAB-9190AE7E4B1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F9E395B-493E-4F5D-A6BC-F76A2065AA7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81801-FD7B-4EBE-8199-FB0E09FC2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A568F42-A23B-437D-8252-DE53308505B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1BE6E1C-CBF3-40E2-9729-8482060B1B2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6C60E13-BD3A-40BA-879E-1184A195BB6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B01350E-0242-4A67-AEF7-6F792244639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08CFCA0-1555-42BE-A744-624903D05BE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F1BF76A-71E8-4CF3-92ED-6D4D4CF20EA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84ABF5F-C0B6-472E-A268-EA9F478E345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E7A9AEE-E90E-408A-B3FA-DAE912F0FCC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46688EA-275A-4A15-807D-B36931D911F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698F8DE-3CCE-4BD6-BB18-8D0F4F4C189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58A2-DE96-468A-8AE3-BE22C47F0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0C33B4-67C0-445E-B8A6-6F7852B6C29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3717E6B-6D49-4F76-9242-F7120AA1EDF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7CEB854-60AF-4ABE-BE36-845DCF01D9F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090E8F5-46E3-4F2B-B795-2ACDA09841C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408E49D-BE62-4FC8-8098-8FC0C21715A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4C491A6-4FFD-4BE5-8048-2830EA44F4D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49A7EEF-B26C-48BC-8458-B16F0DFBF0D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35DF666-03A6-4C07-8E73-1D746CA2942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B83A6C4-DB64-452F-9AC4-EC7AE2963E0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7466FF8-0E7B-4D1D-87E2-42C3D9E50E1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E929F-ABD0-4D34-A2E3-EF21F631A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F706B37-1207-4E93-9409-D7A68E674EF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1DC889C-B7C4-460A-8159-A18F1A5201F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3C7A535-95DF-4A1B-9656-9658CBE7D2F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6E7213B-DD78-45B7-9C02-181212EDAEF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2CB54B8-8B3F-419B-89F6-41CD87D8AE3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4F5A2DA-80DB-4F9B-B500-872B12FCD0A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3A0FAC3-B190-4D95-88B1-C468A3F7501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88DF9A5-508F-4B3F-BF3C-0F57490CE57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64394D9-2EF8-4C0F-883A-267221CCDC9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27A5F47-C2FD-47A7-95D9-8F5F74A2F19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281B4-6C3A-43D9-87FA-FA9EB18AC8AB}"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2A2A4-5715-4492-94D0-BFB57F5C36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C2FF4-19EB-4AF5-9AED-4C8689CFFEA9}"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2C838-BFCC-4A33-AD77-E58B9CF2B6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53AA2-BB9F-4D82-9F74-4021566585E3}"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BF87C-646D-4C65-95ED-69CCD760EC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8A3C0-7AEC-4A4D-BB05-357FA1631C68}"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D7D69-70FC-4D04-8C30-5B1A861FC8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2B243-0D7B-4628-9EDC-0255164FD063}"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4D3A0-D002-464C-A29C-A1EF4F12CA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7D5FB-EC84-4C72-AE27-1F95203556F4}"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537F2-CDBF-4E47-B6AE-3A5614618014}"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0918D-CB51-463B-9314-C69AFA9741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A337D-447A-48DE-9300-A918D7E9BAB3}"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A5338-373D-48D4-B1E9-BA902F1678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5FD09-512C-4AA5-9D8E-5C9B6B20DF3E}"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0A82B-DF50-4CB2-A373-08808E1548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98C21-C542-4B9A-AD8A-93D5BEC09CD2}"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02020-81D4-487B-822B-BD33C0FEEA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98D64-7F82-4542-B475-197CA01846F6}"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D2980-B02E-4ECD-9996-D5438ACC49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6577A-DEFB-414C-96C0-F82BBC91E7DD}"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5B811-7ED3-4710-82E1-EC1972E1F9B2}"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FE3E8-0E60-4A6A-992C-49347DEF31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66C2D-0628-4729-A0AC-61FD82510D48}"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33170-9014-435A-B310-530227C354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2A4D4-72FE-42D9-BD8D-3F1F184C1440}"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4333D-8242-4EBD-8905-203B8F1CF3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20E77-9B61-471E-A278-3644C7BEB770}"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CB0F4-858E-44B2-B7B8-76D5301CC3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97376-2AE1-4C9B-9AF5-F600C61D291F}"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b870b8"/>
                </a:solidFill>
                <a:latin typeface="Rockwell"/>
              </a:rPr>
              <a:t>+</a:t>
            </a:r>
            <a:endParaRPr b="0" lang="en-US" sz="4000" spc="-1" strike="noStrike">
              <a:solidFill>
                <a:srgbClr val="000000"/>
              </a:solidFill>
              <a:latin typeface="Rockwel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9C778-72E3-4371-A9E6-B16E7B18DDBA}"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2D0F3-5A4F-4C91-8F5C-7A3364112B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D8F0F-AF67-4FB4-BE8C-9DDC8C30D0C6}"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C7C9A-FC0C-4519-8092-224372AD48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5439E-6407-4B93-BAE3-3EB510AA9C12}"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5D52D-610E-4D3A-9327-DF4AC0B464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BA004-D771-4112-8D42-34A5CAD1603C}"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42E2C-0576-4FB9-94DA-AABE09D6CC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Traumatic Brain Injuries</a:t>
            </a:r>
            <a:endParaRPr b="0" lang="en-US" sz="2500" spc="-1" strike="noStrike">
              <a:solidFill>
                <a:srgbClr val="663366"/>
              </a:solidFill>
              <a:latin typeface="Rockwell"/>
            </a:endParaRPr>
          </a:p>
        </p:txBody>
      </p:sp>
      <p:sp>
        <p:nvSpPr>
          <p:cNvPr id="911" name="PlaceHolder 2"/>
          <p:cNvSpPr>
            <a:spLocks noGrp="1"/>
          </p:cNvSpPr>
          <p:nvPr>
            <p:ph type="subTitle"/>
          </p:nvPr>
        </p:nvSpPr>
        <p:spPr>
          <a:xfrm>
            <a:off x="4800600" y="5562360"/>
            <a:ext cx="4038480" cy="7491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Jill Bryant, Julianette Casanova, Emily Heckman, Robin Koogle, and Deanna Scott</a:t>
            </a:r>
            <a:endParaRPr b="0" lang="en-US" sz="1400" spc="-1" strike="noStrike">
              <a:solidFill>
                <a:srgbClr val="595959"/>
              </a:solidFill>
              <a:latin typeface="Rockwell"/>
            </a:endParaRPr>
          </a:p>
        </p:txBody>
      </p:sp>
      <p:pic>
        <p:nvPicPr>
          <p:cNvPr id="912" name="Picture 4" descr="traumatic_brain_injury.jpg"/>
          <p:cNvPicPr/>
          <p:nvPr/>
        </p:nvPicPr>
        <p:blipFill>
          <a:blip r:embed="rId1"/>
          <a:stretch/>
        </p:blipFill>
        <p:spPr>
          <a:xfrm>
            <a:off x="816120" y="793800"/>
            <a:ext cx="3389040" cy="31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velopmental Implications</a:t>
            </a:r>
            <a:endParaRPr b="0" lang="en-US" sz="3600" spc="-1" strike="noStrike">
              <a:solidFill>
                <a:srgbClr val="663366"/>
              </a:solidFill>
              <a:latin typeface="Rockwell"/>
            </a:endParaRPr>
          </a:p>
        </p:txBody>
      </p:sp>
      <p:sp>
        <p:nvSpPr>
          <p:cNvPr id="930" name=""/>
          <p:cNvSpPr txBox="1"/>
          <p:nvPr/>
        </p:nvSpPr>
        <p:spPr>
          <a:xfrm>
            <a:off x="498600" y="1981080"/>
            <a:ext cx="7556400" cy="4145040"/>
          </a:xfrm>
          <a:prstGeom prst="rect">
            <a:avLst/>
          </a:prstGeom>
          <a:noFill/>
          <a:ln w="0">
            <a:noFill/>
          </a:ln>
        </p:spPr>
        <p:txBody>
          <a:bodyPr anchor="t">
            <a:normAutofit/>
          </a:bodyPr>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Rockwell"/>
              </a:rPr>
              <a:t>Cognitive: </a:t>
            </a:r>
            <a:r>
              <a:rPr b="0" lang="en-US" sz="1900" spc="-1" strike="noStrike">
                <a:solidFill>
                  <a:srgbClr val="595959"/>
                </a:solidFill>
                <a:latin typeface="Rockwell"/>
              </a:rPr>
              <a:t>Cognitive and communication issues stemming from traumatic brain injuries range from person to person. Mild cognitive issues include:</a:t>
            </a:r>
            <a:endParaRPr b="0" lang="en-US" sz="1900" spc="-1" strike="noStrike">
              <a:solidFill>
                <a:srgbClr val="595959"/>
              </a:solidFill>
              <a:latin typeface="Rockwell"/>
            </a:endParaRPr>
          </a:p>
          <a:p>
            <a:pPr lvl="1" marL="457200" indent="-228600">
              <a:lnSpc>
                <a:spcPct val="8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Rockwell"/>
              </a:rPr>
              <a:t> </a:t>
            </a:r>
            <a:r>
              <a:rPr b="0" lang="en-US" sz="1700" spc="-1" strike="noStrike">
                <a:solidFill>
                  <a:srgbClr val="595959"/>
                </a:solidFill>
                <a:latin typeface="Rockwell"/>
              </a:rPr>
              <a:t>trouble organizing</a:t>
            </a:r>
            <a:endParaRPr b="0" lang="en-US" sz="1700" spc="-1" strike="noStrike">
              <a:solidFill>
                <a:srgbClr val="595959"/>
              </a:solidFill>
              <a:latin typeface="Rockwell"/>
            </a:endParaRPr>
          </a:p>
          <a:p>
            <a:pPr lvl="1" marL="457200" indent="-228600">
              <a:lnSpc>
                <a:spcPct val="8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Rockwell"/>
              </a:rPr>
              <a:t>keeping track of the date</a:t>
            </a:r>
            <a:endParaRPr b="0" lang="en-US" sz="1700" spc="-1" strike="noStrike">
              <a:solidFill>
                <a:srgbClr val="595959"/>
              </a:solidFill>
              <a:latin typeface="Rockwell"/>
            </a:endParaRPr>
          </a:p>
          <a:p>
            <a:pPr lvl="1" marL="457200" indent="-228600">
              <a:lnSpc>
                <a:spcPct val="8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Rockwell"/>
              </a:rPr>
              <a:t>forgetfulness</a:t>
            </a:r>
            <a:endParaRPr b="0" lang="en-US" sz="1700" spc="-1" strike="noStrike">
              <a:solidFill>
                <a:srgbClr val="595959"/>
              </a:solidFill>
              <a:latin typeface="Rockwell"/>
            </a:endParaRPr>
          </a:p>
          <a:p>
            <a:pPr lvl="1" marL="457200" indent="-228600">
              <a:lnSpc>
                <a:spcPct val="8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Rockwell"/>
              </a:rPr>
              <a:t>difficulty learning</a:t>
            </a:r>
            <a:endParaRPr b="0" lang="en-US" sz="1700" spc="-1" strike="noStrike">
              <a:solidFill>
                <a:srgbClr val="595959"/>
              </a:solidFill>
              <a:latin typeface="Rockwell"/>
            </a:endParaRPr>
          </a:p>
          <a:p>
            <a:pPr lvl="1" marL="457200" indent="-228600">
              <a:lnSpc>
                <a:spcPct val="8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Rockwell"/>
              </a:rPr>
              <a:t>and trouble intellectually applying skills that used to be familiar.</a:t>
            </a:r>
            <a:endParaRPr b="0" lang="en-US" sz="1700" spc="-1" strike="noStrike">
              <a:solidFill>
                <a:srgbClr val="595959"/>
              </a:solidFill>
              <a:latin typeface="Rockwel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 </a:t>
            </a:r>
            <a:r>
              <a:rPr b="0" lang="en-US" sz="1900" spc="-1" strike="noStrike">
                <a:solidFill>
                  <a:srgbClr val="595959"/>
                </a:solidFill>
                <a:latin typeface="Rockwell"/>
              </a:rPr>
              <a:t>Severe issues include loss of responsiveness to any noise, smell, or feeling that would normally stimulate the senses. This usually occurs when swelling causes pressure in the brain stem, which controls consciousness. The assessment of cognitive issues for each patient requires ongoing care by a number of professionals.</a:t>
            </a:r>
            <a:endParaRPr b="0" lang="en-US" sz="1900" spc="-1" strike="noStrike">
              <a:solidFill>
                <a:srgbClr val="595959"/>
              </a:solidFill>
              <a:latin typeface="Rockwel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velopmental Implications</a:t>
            </a:r>
            <a:endParaRPr b="0" lang="en-US" sz="3600" spc="-1" strike="noStrike">
              <a:solidFill>
                <a:srgbClr val="663366"/>
              </a:solidFill>
              <a:latin typeface="Rockwell"/>
            </a:endParaRPr>
          </a:p>
        </p:txBody>
      </p:sp>
      <p:sp>
        <p:nvSpPr>
          <p:cNvPr id="932" name=""/>
          <p:cNvSpPr txBox="1"/>
          <p:nvPr/>
        </p:nvSpPr>
        <p:spPr>
          <a:xfrm>
            <a:off x="498600" y="1981080"/>
            <a:ext cx="7556400" cy="4145040"/>
          </a:xfrm>
          <a:prstGeom prst="rect">
            <a:avLst/>
          </a:prstGeom>
          <a:noFill/>
          <a:ln w="0">
            <a:noFill/>
          </a:ln>
        </p:spPr>
        <p:txBody>
          <a:bodyPr anchor="t">
            <a:normAutofit/>
          </a:bodyPr>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 </a:t>
            </a:r>
            <a:r>
              <a:rPr b="1" lang="en-US" sz="2000" spc="-1" strike="noStrike">
                <a:solidFill>
                  <a:srgbClr val="595959"/>
                </a:solidFill>
                <a:latin typeface="Rockwell"/>
              </a:rPr>
              <a:t>Physical:</a:t>
            </a:r>
            <a:r>
              <a:rPr b="0" lang="en-US" sz="2000" spc="-1" strike="noStrike">
                <a:solidFill>
                  <a:srgbClr val="595959"/>
                </a:solidFill>
                <a:latin typeface="Rockwell"/>
              </a:rPr>
              <a:t> The most common problems people with TBI have are problems with thinking and managing emotions. Many traumatic brain injuries result from accidents, so rehabilitation is often an initial physical obstacle to overcome. </a:t>
            </a:r>
            <a:endParaRPr b="0" lang="en-US" sz="2000" spc="-1" strike="noStrike">
              <a:solidFill>
                <a:srgbClr val="595959"/>
              </a:solidFill>
              <a:latin typeface="Rockwell"/>
            </a:endParaRPr>
          </a:p>
          <a:p>
            <a:pPr lvl="1" marL="457200" indent="-228600">
              <a:lnSpc>
                <a:spcPct val="9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More severe head injuries can result in physical impairments that can last a lifetime. </a:t>
            </a:r>
            <a:endParaRPr b="0" lang="en-US" sz="1800" spc="-1" strike="noStrike">
              <a:solidFill>
                <a:srgbClr val="595959"/>
              </a:solidFill>
              <a:latin typeface="Rockwell"/>
            </a:endParaRPr>
          </a:p>
          <a:p>
            <a:pPr lvl="1" marL="457200" indent="-228600">
              <a:lnSpc>
                <a:spcPct val="9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A person with a mild to severe brain injury can have symptoms that include dizziness, constant headache, vomiting and lack of motor coordination. </a:t>
            </a:r>
            <a:endParaRPr b="0" lang="en-US" sz="1800" spc="-1" strike="noStrike">
              <a:solidFill>
                <a:srgbClr val="595959"/>
              </a:solidFill>
              <a:latin typeface="Rockwell"/>
            </a:endParaRPr>
          </a:p>
          <a:p>
            <a:pPr lvl="1" marL="457200" indent="-228600">
              <a:lnSpc>
                <a:spcPct val="9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Increased pressure in the skull can also cause paralysis, weakness, loss of consciousness, slow breathing, slow heart rate, and more. Abnormal posturing is another large sign of a brain injury. </a:t>
            </a:r>
            <a:endParaRPr b="0" lang="en-US" sz="18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Assessment &amp; Diagnosis</a:t>
            </a:r>
            <a:endParaRPr b="0" lang="en-US" sz="3600" spc="-1" strike="noStrike">
              <a:solidFill>
                <a:srgbClr val="663366"/>
              </a:solidFill>
              <a:latin typeface="Rockwell"/>
            </a:endParaRPr>
          </a:p>
        </p:txBody>
      </p:sp>
      <p:sp>
        <p:nvSpPr>
          <p:cNvPr id="934"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e diagnosis of TBI is usually obvious following a major accident. But, the symptoms do not always show up right away and it may take time for the patient to realize that they are having difficulty in tasks that were once easy.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Methods of Diagnosis</a:t>
            </a:r>
            <a:endParaRPr b="0" lang="en-US" sz="20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Neurological examination</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CAT scan, MRI, SPECT, and PET to image the brain</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Cognitive evaluation by a neuropsychologist</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Speech, physical, and occupational evaluations by therapists in those specific fields</a:t>
            </a:r>
            <a:endParaRPr b="0" lang="en-US" sz="18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reatment &amp; Therapies</a:t>
            </a:r>
            <a:endParaRPr b="0" lang="en-US" sz="3600" spc="-1" strike="noStrike">
              <a:solidFill>
                <a:srgbClr val="663366"/>
              </a:solidFill>
              <a:latin typeface="Rockwell"/>
            </a:endParaRPr>
          </a:p>
        </p:txBody>
      </p:sp>
      <p:sp>
        <p:nvSpPr>
          <p:cNvPr id="936"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Medications:</a:t>
            </a:r>
            <a:endParaRPr b="0" lang="en-US" sz="20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Diuretic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Anti-Seizure Drug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Coma-inducing drugs</a:t>
            </a:r>
            <a:endParaRPr b="0" lang="en-US" sz="18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erapy – Rehabilitation</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urgery:</a:t>
            </a:r>
            <a:endParaRPr b="0" lang="en-US" sz="20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Removing blood clot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Repairing skull fracture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Opening a window in the skull</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References</a:t>
            </a:r>
            <a:endParaRPr b="0" lang="en-US" sz="3600" spc="-1" strike="noStrike">
              <a:solidFill>
                <a:srgbClr val="663366"/>
              </a:solidFill>
              <a:latin typeface="Rockwell"/>
            </a:endParaRPr>
          </a:p>
        </p:txBody>
      </p:sp>
      <p:sp>
        <p:nvSpPr>
          <p:cNvPr id="938" name=""/>
          <p:cNvSpPr txBox="1"/>
          <p:nvPr/>
        </p:nvSpPr>
        <p:spPr>
          <a:xfrm>
            <a:off x="498600" y="1257120"/>
            <a:ext cx="7556400" cy="525276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Rockwell"/>
              </a:rPr>
              <a:t>"9 1/2 Need-To-Know Facts About Traumatic Brain Injury." </a:t>
            </a:r>
            <a:r>
              <a:rPr b="0" i="1" lang="en-US" sz="1400" spc="-1" strike="noStrike">
                <a:solidFill>
                  <a:srgbClr val="595959"/>
                </a:solidFill>
                <a:latin typeface="Rockwell"/>
              </a:rPr>
              <a:t>Traumatic Brain Injury - TBI &amp; Head Injury Resource | BrainLine.org. N.p., n.d. Web. 11 Mar. 2010. &lt;http://www.brainline.org/content/2010/01/9-12-need-to-know-facts-about-traumatic-brain-injury.html&gt;.</a:t>
            </a:r>
            <a:endParaRPr b="0" lang="en-US" sz="1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95959"/>
                </a:solidFill>
                <a:latin typeface="Rockwell"/>
              </a:rPr>
              <a:t>"Diagnosis of Traumatic Brain Injury (TBI)."   TBI |Traumatic Brain Injury| Traumatic Brain Injury Resources| Brain Injury Support | Brain Injury Information  . N.p., n.d. Web. 11 Mar. 2010. &lt;http://www.traumaticbraininjury.com/content/symptoms/diagnosisoftbi.html&gt;.</a:t>
            </a:r>
            <a:endParaRPr b="0" lang="en-US" sz="1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95959"/>
                </a:solidFill>
                <a:latin typeface="Rockwell"/>
              </a:rPr>
              <a:t>"Traumatic Brain Injury Information Page: National Institute of Neurological Disorders and Stroke (NINDS)." National Institute of Neurological Disorders and Stroke (NINDS). N.p., n.d. Web. 11 Mar. 2010. &lt;http://www.ninds.nih.gov/disorders/tbi/tbi.htm&gt;.</a:t>
            </a:r>
            <a:endParaRPr b="0" lang="en-US" sz="1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95959"/>
                </a:solidFill>
                <a:latin typeface="Rockwell"/>
              </a:rPr>
              <a:t>"Traumatic Brain Injury." Special Education. N.p., n.d. Web. 11 Mar. 2010. &lt;http://specialed.about.com/od/disabilities/a/tbi.htm&gt;.</a:t>
            </a:r>
            <a:endParaRPr b="0" lang="en-US" sz="1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95959"/>
                </a:solidFill>
                <a:latin typeface="Rockwell"/>
              </a:rPr>
              <a:t>"Traumatic brain injury - MayoClinic.com." Mayo Clinic medical information and tools for healthy living - MayoClinic.com. N.p., n.d. Web. 11 Mar. 2010. &lt;http://www.mayoclinic.com/health/traumatic-brain-injury/DS00552&gt;.</a:t>
            </a:r>
            <a:endParaRPr b="0" lang="en-US" sz="1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95959"/>
                </a:solidFill>
                <a:latin typeface="Rockwell"/>
              </a:rPr>
              <a:t>Uomoto, Jay, and  Ph.D.. "What Do Neuropsychological Tests Measure?." Brain Injury Resource Foundation. N.p., n.d. Web. 11 Mar. 2010. &lt;http://www.birf.info/home/library/emotional/emotbi_lifecha.html&gt;.</a:t>
            </a:r>
            <a:endParaRPr b="0" lang="en-US" sz="14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finition: TBI</a:t>
            </a:r>
            <a:endParaRPr b="0" lang="en-US" sz="3600" spc="-1" strike="noStrike">
              <a:solidFill>
                <a:srgbClr val="663366"/>
              </a:solidFill>
              <a:latin typeface="Rockwell"/>
            </a:endParaRPr>
          </a:p>
        </p:txBody>
      </p:sp>
      <p:sp>
        <p:nvSpPr>
          <p:cNvPr id="914"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BI is a complex injury with a broad spectrum of symptoms and disabilities. It occurs when a sudden trauma causes damage to the brain. TBI can result when the head suddenly and violently hits an object, or when an object pierces the skull and enters the brain tissue.</a:t>
            </a: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Prevalence</a:t>
            </a:r>
            <a:endParaRPr b="0" lang="en-US" sz="3600" spc="-1" strike="noStrike">
              <a:solidFill>
                <a:srgbClr val="663366"/>
              </a:solidFill>
              <a:latin typeface="Rockwell"/>
            </a:endParaRPr>
          </a:p>
        </p:txBody>
      </p:sp>
      <p:sp>
        <p:nvSpPr>
          <p:cNvPr id="916"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e estimated incidence of traumatic brain injury doubles between the ages of 5 and 14 years old, and increases for both males and females during adolescence and early adulthood. 1.4 million people sustain a TBI each year in the United States. By the numbers, every American has a 1:300 chance of sustaining a traumatic brain injury each year. An estimated 5.3 million Americans—about 2% of the U.S population—currently have a long-term or life-long need for help with everyday activities dues to traumatic brain injuries. </a:t>
            </a: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auses of TBI</a:t>
            </a:r>
            <a:endParaRPr b="0" lang="en-US" sz="3600" spc="-1" strike="noStrike">
              <a:solidFill>
                <a:srgbClr val="663366"/>
              </a:solidFill>
              <a:latin typeface="Rockwell"/>
            </a:endParaRPr>
          </a:p>
        </p:txBody>
      </p:sp>
      <p:pic>
        <p:nvPicPr>
          <p:cNvPr id="918" name="Picture 3" descr="CausesPie.jpg"/>
          <p:cNvPicPr/>
          <p:nvPr/>
        </p:nvPicPr>
        <p:blipFill>
          <a:blip r:embed="rId1"/>
          <a:stretch/>
        </p:blipFill>
        <p:spPr>
          <a:xfrm>
            <a:off x="1623960" y="1924200"/>
            <a:ext cx="5896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Major Characteristics</a:t>
            </a:r>
            <a:endParaRPr b="0" lang="en-US" sz="3600" spc="-1" strike="noStrike">
              <a:solidFill>
                <a:srgbClr val="663366"/>
              </a:solidFill>
              <a:latin typeface="Rockwell"/>
            </a:endParaRPr>
          </a:p>
        </p:txBody>
      </p:sp>
      <p:sp>
        <p:nvSpPr>
          <p:cNvPr id="920" name=""/>
          <p:cNvSpPr txBox="1"/>
          <p:nvPr/>
        </p:nvSpPr>
        <p:spPr>
          <a:xfrm>
            <a:off x="498600" y="1980720"/>
            <a:ext cx="7556400" cy="4286520"/>
          </a:xfrm>
          <a:prstGeom prst="rect">
            <a:avLst/>
          </a:prstGeom>
          <a:noFill/>
          <a:ln w="0">
            <a:noFill/>
          </a:ln>
        </p:spPr>
        <p:txBody>
          <a:bodyPr anchor="t">
            <a:normAutofit/>
          </a:bodyPr>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Rockwell"/>
              </a:rPr>
              <a:t>Physical Impairments</a:t>
            </a:r>
            <a:r>
              <a:rPr b="0" lang="en-US" sz="1900" spc="-1" strike="noStrike">
                <a:solidFill>
                  <a:srgbClr val="595959"/>
                </a:solidFill>
                <a:latin typeface="Rockwell"/>
              </a:rPr>
              <a:t>:</a:t>
            </a:r>
            <a:r>
              <a:rPr b="1" lang="en-US" sz="1900" spc="-1" strike="noStrike">
                <a:solidFill>
                  <a:srgbClr val="595959"/>
                </a:solidFill>
                <a:latin typeface="Rockwell"/>
              </a:rPr>
              <a:t> </a:t>
            </a:r>
            <a:r>
              <a:rPr b="0" lang="en-US" sz="1900" spc="-1" strike="noStrike">
                <a:solidFill>
                  <a:srgbClr val="595959"/>
                </a:solidFill>
                <a:latin typeface="Rockwell"/>
              </a:rPr>
              <a:t>speech, vision, hearing and other sensory impairment, headaches, lack of fine motor coordination, spasticity of muscles, paresis or paralysis of one or both sides and seizure disorders, and balance.</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Rockwell"/>
              </a:rPr>
              <a:t>Cognitive Impairments</a:t>
            </a:r>
            <a:r>
              <a:rPr b="0" lang="en-US" sz="1900" spc="-1" strike="noStrike">
                <a:solidFill>
                  <a:srgbClr val="595959"/>
                </a:solidFill>
                <a:latin typeface="Rockwell"/>
              </a:rPr>
              <a:t>: short- and long-term memory loss, impaired concentration, limited attention span, as well as impairments of perception, communication, reading and writing skills, planning sequencing, and judgment.</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Rockwell"/>
              </a:rPr>
              <a:t>Psychosocial-behavioral-emotional impairments</a:t>
            </a:r>
            <a:r>
              <a:rPr b="0" lang="en-US" sz="1900" spc="-1" strike="noStrike">
                <a:solidFill>
                  <a:srgbClr val="595959"/>
                </a:solidFill>
                <a:latin typeface="Rockwell"/>
              </a:rPr>
              <a:t>: fatigue, mood swings, denial, self-centeredness, anxiety, depression, lowered self-esteem, sexual dysfunction, restlessness, lack of motivation, difficulty with emotional control, inability to cope, agitation, excessive laughing or crying, and difficulty relating to other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Major Characteristics</a:t>
            </a:r>
            <a:endParaRPr b="0" lang="en-US" sz="3600" spc="-1" strike="noStrike">
              <a:solidFill>
                <a:srgbClr val="663366"/>
              </a:solidFill>
              <a:latin typeface="Rockwell"/>
            </a:endParaRPr>
          </a:p>
        </p:txBody>
      </p:sp>
      <p:sp>
        <p:nvSpPr>
          <p:cNvPr id="922"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Academic Implications:</a:t>
            </a:r>
            <a:endParaRPr b="0" lang="en-US" sz="20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Difficulty with logic, thinking and reasoning</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Slower to respond, react and complete activities and task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Difficulty focusing attention</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Physical limitation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Inappropriate social behavior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Difficulty remembering</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Frequently puzzled or challenged by grade level work</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Difficulty learning</a:t>
            </a:r>
            <a:endParaRPr b="0" lang="en-US" sz="18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velopmental Implications</a:t>
            </a:r>
            <a:endParaRPr b="0" lang="en-US" sz="3600" spc="-1" strike="noStrike">
              <a:solidFill>
                <a:srgbClr val="663366"/>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It is important for educators to note the </a:t>
            </a:r>
            <a:r>
              <a:rPr b="1" lang="en-US" sz="2000" spc="-1" strike="noStrike">
                <a:solidFill>
                  <a:srgbClr val="595959"/>
                </a:solidFill>
                <a:latin typeface="Rockwell"/>
              </a:rPr>
              <a:t>social, emotional, physical, and cognitive </a:t>
            </a:r>
            <a:r>
              <a:rPr b="0" lang="en-US" sz="2000" spc="-1" strike="noStrike">
                <a:solidFill>
                  <a:srgbClr val="595959"/>
                </a:solidFill>
                <a:latin typeface="Rockwell"/>
              </a:rPr>
              <a:t>problems that are caused by traumatic brain injuries.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raumatic brain injuries affect the whole person, since it occurs in the brain, where all functions develop.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Every case of traumatic brain injury is completely different, affecting the person physically, emotionally, socially, cognitively, or at all. </a:t>
            </a:r>
            <a:endParaRPr b="0" lang="en-US" sz="2000" spc="-1" strike="noStrike">
              <a:solidFill>
                <a:srgbClr val="595959"/>
              </a:solidFill>
              <a:latin typeface="Rockwell"/>
            </a:endParaRPr>
          </a:p>
          <a:p>
            <a:pPr marL="228600" indent="-228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velopmental Implications</a:t>
            </a:r>
            <a:endParaRPr b="0" lang="en-US" sz="3600" spc="-1" strike="noStrike">
              <a:solidFill>
                <a:srgbClr val="663366"/>
              </a:solidFill>
              <a:latin typeface="Rockwell"/>
            </a:endParaRPr>
          </a:p>
        </p:txBody>
      </p:sp>
      <p:sp>
        <p:nvSpPr>
          <p:cNvPr id="926"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Rockwell"/>
              </a:rPr>
              <a:t>Emotional</a:t>
            </a:r>
            <a:r>
              <a:rPr b="0" lang="en-US" sz="2000" spc="-1" strike="noStrike">
                <a:solidFill>
                  <a:srgbClr val="595959"/>
                </a:solidFill>
                <a:latin typeface="Rockwell"/>
              </a:rPr>
              <a:t>: Relearning the tasks of everyday living can be very frustrating for traumatic brain injury survivors. Mild emotional development issues include lack of motivation, anger, and disappointment. Recovery is possible, but living with a traumatic brain injury requires patience and commitment. This can be difficult because the person in recovery is often very different as a result of their injury. If a person can accept their disability, their emotional difficulties can be reduced, but it is important for sufferers to keep pursuing treatment and activities to improve their condition.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velopmental Implications</a:t>
            </a:r>
            <a:endParaRPr b="0" lang="en-US" sz="3600" spc="-1" strike="noStrike">
              <a:solidFill>
                <a:srgbClr val="663366"/>
              </a:solidFill>
              <a:latin typeface="Rockwell"/>
            </a:endParaRPr>
          </a:p>
        </p:txBody>
      </p:sp>
      <p:sp>
        <p:nvSpPr>
          <p:cNvPr id="928"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Rockwell"/>
              </a:rPr>
              <a:t>Social</a:t>
            </a:r>
            <a:r>
              <a:rPr b="0" lang="en-US" sz="2000" spc="-1" strike="noStrike">
                <a:solidFill>
                  <a:srgbClr val="595959"/>
                </a:solidFill>
                <a:latin typeface="Rockwell"/>
              </a:rPr>
              <a:t>: Many mild TBI sufferers have trouble interpreting the actions of other people, which causes great stress in social situations. Also, the cognitive impairments that often come with a traumatic brain injury are hard for others in social settings to understand. Since many TBI sufferers don’t have extremely obvious impairments, people don’t sympathize with them when they have trouble in social settings. Trouble with communication is a huge obstacle for those with brain injuries. In severe cases, the TBI sufferer may not even be aware of their social surroundings and are unresponsive to actions that normally stimulate the brain.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1:48:11Z</dcterms:created>
  <dc:creator>Robin Koogle</dc:creator>
  <dc:description/>
  <dc:language>en-US</dc:language>
  <cp:lastModifiedBy>Robin Koogle</cp:lastModifiedBy>
  <dcterms:modified xsi:type="dcterms:W3CDTF">2010-03-15T04:22:42Z</dcterms:modified>
  <cp:revision>9</cp:revision>
  <dc:subject/>
  <dc:title>Traumatic Brain Injuries</dc:title>
</cp:coreProperties>
</file>